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9C14-98ED-4FE2-862D-F5411AF9F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83EB-5943-442B-A619-6739EE8B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D7369-93CF-48B4-8987-CD99FA4C5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BC215-89E4-45F2-B465-2B8452C01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7F806-C419-4418-BE08-0FE707435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678F5-245E-4314-B140-7C4A67BD3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91AA6-B74B-45AF-B9DE-2B02B31F7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86D3A-D212-42DB-AD8F-CA00299B8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0DE44-6666-4020-809E-2E8B57860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129DA-C28E-466B-9452-213A792D8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9AC26-5577-4391-B241-F0CA440AD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D7821-AC36-4F35-AB22-AE6500220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C186E-4B70-4EFF-8E4E-120649CF1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9CE0-DEFE-4EB9-B95A-179223716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41AFE-563E-41A0-A460-4AFA2EEA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09BBC-51A6-44D8-90BB-ACBF07949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56FC9-D901-42DA-B652-DAD2A17CE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55E53-CF7C-42E7-98A4-CFC5BFAEC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C99A-BCA6-4210-A862-4DA6D3DF9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4CDC5-28A6-4150-BAA2-8620126A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31F0-3E2B-4DE6-9076-FC14F4B3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5EA8-9A30-407F-B3FA-7A59D7406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A281-70BD-4F4A-BA2F-6E712C8C6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71CBC-D3AA-4AB3-A85A-D750FF655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FB1D-1D7F-4D94-8F15-0D4944118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810E-1074-42B3-9646-E6D68734C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riting Constructed Responses</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xis II Principles of Learning and Teac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to show how to apply the principles to the situation at hand.  I don’t think it needs to be as wordy as the example they gave, but it needs to be along those li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the experts (p. 99)</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that you have a thorough understanding of the case.  Some answers receive partial credit because they are vague—they address the issues brought up in the case study at too general a level rather than at the level that takes into consideration the particulars given about a teacher, student, or assign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experts give their example</a:t>
            </a: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asked, for example, about the boy in a case study with learning disabilities whose patterns of behavior are described specifically in several sentences in the case study, don’t answer the question in terms of children with disabilities in general, but, instead, focus on the boy and all the particulars you know about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your knowledge to the case at hand.  Avoid generalities when there is specific information to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the expert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your answer with details…The scorers are looking for some justification of your answers.  If you are asked to state a “strength” shown by the teacher in a case study, don’t just state the strength in a few words.  Write why this is a strength—perhaps because of a particular principle of effective instructional design, which you should briefly summarize, or perhaps because of a good outcome described in the case, to which you should re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last from the expert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change the question or challenge the basis of the question.  Stay focused on the question that is asked and do your best to answer it.  You will receive no credit or, at best, a low score if you choose to answer another question or you state that, for example, there really aren’t any activities that could be proposed, or there aren’t any strengths to mention, or in some other way deny the basis of the question.  (p. 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 other word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believe their questions are answerable.  You may have a different philosophical perspective, but unless you want to pay for taking the Praxis again, you will have to adopt whatever stance is represented by the test.  In other words, you will have to find a strength or two activities or whatever else they a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now?</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ollows is a series of slides that have content-based questions on them.  These slides will give you an idea of the types of questions you may be asked on Praxi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urpose of reading them is to get them into your mind so that when you read the real thing, it will seem familiar.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t enough information to form an actual response, but you might be able to think about some general principles related to the subject ma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to think abou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sson plan for meeting needs of individual students with identified special needs, a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action described in the case between the teacher and students in terms of culturally responsive teac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a student with attention deficit problems described in the case stay on task (e.g., listening to a lecture, following a demonstration, doing written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performance of students in the case who do not perform well on homework, original compositions, or other assig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ucture of Praxis II</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xis has 24 multiple choice questions and 4 case histories with 3 constructed response questions each (12 constructed respons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have 2 hours to take the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in the case for whom English is not the first language build literacy skills and/or improve in academic ar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needs of a wide range of students (especially students with learning difficulties and students who are accele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a positive relationship with a student the case shows is very turned off in scho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ng instruction and/or assessment for an individual student with identified need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the students described in the case see issues from different points of vie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with parents used by a teacher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roach used by a teacher described in the case to involve par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parent volunteers during a lesson that is described in a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ing all parents or other caregivers in helping students in areas specifi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the family of a student described in the case work with the students’ learning or other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 the teacher’s oral or written communication with the students in the case (e.g., feedback on assignments, interaction during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the self-image of a student described in the case or the student’s sense of responsibility for his/her own lear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ing all students in a class discussion described in the case in a positive way, showing respect for oth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a student described in the case to develop social skills in a specified situ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1"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 a strategy for:</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progress for students described in the case who are working toward specified goals or objective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class progress toward achievement of specified goals or objective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information to use to help understand classroom performance that is different from what was expected at the beginning of the year.</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ing language fluency of a student for whom English is not the first langu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hypothesis or explanation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udent’s strengths and/or weaknesses as a learner based on the evidence presen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be important to explore in working with a student described in the case who is having difficulties academically, socially, or emotion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 strength and/or weakness i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t plan that is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strategies used in instruction (e.g., lecture, class discussion)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quence of lessons described in the case designed to achieve a goal or a set of objectiv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written assignments given to students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what may appear to be conflicting goals or objective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activities that will have students described in the case draw on their own experiences to understand the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mulating prior knowledge in the situation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structed response</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onstructed response questions, you will read a case history and then respond in writing to the constructed response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quickly.  Use bullets for your points instead of paragraphs.  Do not worry about transitions and other “niceties” of wri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ing critical thinking skills in a specific less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ing effectiveness with group work in a particular situati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stay on task in the situation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ing students learn material presented through various media introduc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ing students to group work appropriate to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ing closure to a lesson that stops abruptly as present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student interaction during class discussion as described in the 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a “missed opportunity” during instruction that is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strategy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ing a lesson that is described in the case for improving student engagement and moti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motivation through means other than negative strategies described in the c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behavioral problems that are described in the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ent </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a strength and/or weakness in a lesson plan or instructional strategy described in the case with the intention of building a positive classroom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Your turn</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n’t have to write.  Just think about this stuff.  If you have taken educational psychology, then try to connect the questions with what you have learned.  If you haven’t yet, then this is a preview of material you will learn t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se historie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histories have two possible focuses:  the student and the teach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may also be narrative-based (telling you what went on in a situation) or document-based (giving you a series of documents on which to base your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nswering</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 feels it has given you all information necessary to answer the question, so it’s not okay to claim you need more information.  You need to go with what is ther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important thing:  answer the question completely.  If they ask for TWO strategies, you need to supply TWO strategies in order to get full cred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ategies</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 claims that one expert strategy is to read the case study “with content categories in mind” (p. 73) and then read the questions.  This may require more time than you hav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ategy that makes the most sense is to read the questions and then read the case study.  Make notes related to the questions as you r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vice from experts:  what the scorers suggest</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ALL PARTS of the question.  It might be two strategies, two activities, a strength and a weakness.  Pay attention to what they are asking and be sure you clearly include that.  (scorers’ advi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your inclusions with bullets and state:  “the first strategy is….because…  The second strategy is…. because….” (Carolyn’s ad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advice from the scorers</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that you understand the pedagogical concepts related to the question.  This is a more subtle piece of advice.  The scorers are looking to see not only that you can read the case study and make good observations, but also that you can relate those good observations to pedagogical concepts such as the principles of human development, the principles of motivation, the principles of effective instructional design, and the principles of diagnostic and evaluative assessment. (p. 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re from p. 99</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523880"/>
            <a:ext cx="7848720" cy="4191120"/>
          </a:xfrm>
          <a:prstGeom prst="rect">
            <a:avLst/>
          </a:prstGeom>
          <a:noFill/>
          <a:ln w="0">
            <a:noFill/>
          </a:ln>
        </p:spPr>
        <p:txBody>
          <a:bodyPr lIns="90000" rIns="90000" tIns="46800" bIns="46800"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show you understand these concepts not by merely mentioning that the concepts exist, but by relating them to the specifics of your response.  For example, in answering a question about identifying a weakness in a teacher’s approach to assessment, instead of stating that “Mr. Taft didn’t give the students very good tests,” you could …state instead, “Given that assessment of student performance is most effective when evidence is gathered frequently and through a variety of exercises and assignments, Mr. Taft’s reliance on end-of-chapter tests did not give students like Paige adequate opportunities to demonstrate achieve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2:40:41Z</dcterms:created>
  <dc:creator> </dc:creator>
  <dc:description/>
  <dc:language>en-US</dc:language>
  <cp:lastModifiedBy> </cp:lastModifiedBy>
  <dcterms:modified xsi:type="dcterms:W3CDTF">2005-04-18T23:52:06Z</dcterms:modified>
  <cp:revision>36</cp:revision>
  <dc:subject/>
  <dc:title>Writing Constructed Responses</dc:title>
</cp:coreProperties>
</file>